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17F-131B-4752-8996-33467F87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58ED-CFC2-41A9-AE12-D5A1CE74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17E-90C5-42D5-8C14-742B6D90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020-3986-426A-9661-415E517F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3B29-7CB6-4546-91E8-EA582BC5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1E9A-39CB-470C-94CE-D154E024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9699-D4D8-4460-BCAA-2462F174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B7DD-3DDE-4DCE-87BD-AEC3EC38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620B-8C50-4114-82A4-C9AADC7F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B2A2-8C58-4D3C-A39D-78B8D846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D863-A8C3-488B-9689-533EA56A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200-042A-4CB8-A70A-1B6C8034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EB8F-A186-4FA0-A412-4DC4E2CF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5162-9D73-42FB-AB62-2665454A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2332-C7D1-4A36-9F26-5AD7A612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2AB0-AEDC-4DA0-97B8-83B8407D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DB4F-4481-4964-9ADF-BBD0BCA1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F2C-677C-4570-B901-36AAAE50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5ED-48BC-4D02-A6FB-83DF5455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6D0-343D-43D0-8CF8-BBFA36D9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D06-4225-4411-906F-D9B6FC43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499-8049-4B16-873D-26B94FFD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079-5C31-4C52-B86B-B875B080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671-DB83-45AE-8709-237A650A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9B37-3165-4B7C-A9D5-39A2382AC12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5CA4-3310-4E0E-95CB-0D693093D4A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916280"/>
            <a:ext cx="864252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zh-CN" sz="6000" spc="-1" strike="noStrike">
                <a:solidFill>
                  <a:srgbClr val="008000"/>
                </a:solidFill>
                <a:latin typeface="方正舒体"/>
                <a:ea typeface="方正舒体"/>
              </a:rPr>
              <a:t>      </a:t>
            </a:r>
            <a:r>
              <a:rPr b="0" lang="zh-CN" sz="6000" spc="-1" strike="noStrike">
                <a:solidFill>
                  <a:srgbClr val="008000"/>
                </a:solidFill>
                <a:latin typeface="方正舒体"/>
                <a:ea typeface="方正舒体"/>
              </a:rPr>
              <a:t>规划你的大学生活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什么是大学生活规划呢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342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一般的讲，大学生活规划是从目前比较流行的职业生涯规划中演变而来的，是一种假定在一定程度上人可以掌握自己的命运，通过对未来大学生活道路的预期设计，并采取相应的措施，谋求在大学生活中取得更大成功的一种新型的大学生活管理活动。</a:t>
            </a: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　　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科学的生活规划，可以帮助确立在大学期间的发展目标、发展前景、以及发展道路；可以帮助管理时间和精力，使之用于最具回报率的事情上去，以获得更大的成功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如何进行大学生活规划呢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产生规划意识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你是否觉得现在的大学生活没有什么意义呢？你是否觉得每天都在忙碌，却没有收获呢？你是否觉得，自己老是比别人慢半拍呢？你是否觉得应该利用大学宝贵的时间和有限的资源做点什么呢？你有没有想过改变自己的现状呢？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产生规划意识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如果你的回答“是”的话，那么你已经开始对现状不满，已经产生了规划的意识了。产生规划意识是开始进行大学生活规划的开端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进行自我评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　</a:t>
            </a:r>
            <a:r>
              <a:rPr b="1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自我评估就是对自己进行科学、全面、彻底的解剖，包括对现在的我，过去的我的剖析，对将来的我的设想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进行自我评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自我评估的目的，是认识自己、了解自己。因为只有认识了自己，才能对自己的大学生活作出正确的选择，才能选定适合自己发展的路线，才能对自己的大学生活目标作出最佳抉择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进行自我评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自我评估包括自己的兴趣、特长、性格、学识、技能、智商、情商、思维方式、思维方法、道德水准以及自己今后想从事的职业等等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进行自我评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自我评估可以通过回答以下三个最古老的问题来进行。 </a:t>
            </a:r>
            <a:br>
              <a:rPr sz="3600"/>
            </a:b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　　（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"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我是谁？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" </a:t>
            </a:r>
            <a:br>
              <a:rPr sz="3600"/>
            </a:b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　　（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"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我从那里来，到那里去？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" </a:t>
            </a:r>
            <a:br>
              <a:rPr sz="3600"/>
            </a:b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　　（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"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我要做什么？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"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59920"/>
            <a:ext cx="71992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老师：</a:t>
            </a:r>
            <a:br>
              <a:rPr sz="3200"/>
            </a:b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   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就要毕业了。</a:t>
            </a:r>
            <a:br>
              <a:rPr sz="3200"/>
            </a:b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    回头看自己所谓的大学生活，</a:t>
            </a:r>
            <a:br>
              <a:rPr sz="3200"/>
            </a:b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    我想哭，不是因为离别，而是因为什么都没学到。</a:t>
            </a:r>
            <a:br>
              <a:rPr sz="3200"/>
            </a:b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    我不知，简历该怎么写，若是以往我会让它空白。</a:t>
            </a:r>
            <a:br>
              <a:rPr sz="3200"/>
            </a:b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    最大的收获也许是……对什么都没有的忍耐和适应……</a:t>
            </a:r>
            <a:br>
              <a:rPr sz="3200"/>
            </a:br>
            <a:r>
              <a:rPr b="0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一位在校大学生</a:t>
            </a:r>
            <a:br>
              <a:rPr sz="3200"/>
            </a:br>
            <a:r>
              <a:rPr b="0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990000"/>
                </a:solidFill>
                <a:latin typeface="Comic Sans MS"/>
              </a:rPr>
              <a:t>    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确立目标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在大学生活规划中确立目标是最关键也是最难把握的一步。能不能正确地确立大学期间的发展方向和发展道路，直接关系到能否在大学取得成果的大小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确立目标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芸芸众生，有许多人成功了，也有许多人失败了。分析成功与失败者之间的</a:t>
            </a:r>
            <a:r>
              <a:rPr b="1" lang="zh-CN" sz="36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差距</a:t>
            </a:r>
            <a:r>
              <a:rPr b="1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只在于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确立目标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成功者在他们成功之前，都准确确立了远大的理想。他们的成功只不过是坚持不懈地朝着目标不断努力的必然结果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确立目标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而失败者，他们往往没有目标或者是目标比较低，他们只是“做一天和尚，撞一天钟”，而从来没有仔细考虑过自己要做什么，不要做什么，所以他们没有能成功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确立目标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所以在确立目标的过程  中一定要慎重行事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4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制定方案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　</a:t>
            </a:r>
            <a:r>
              <a:rPr b="1" lang="zh-CN" sz="36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在确立了大学期间的发展目标后，就是制定切实可行的方案，把目标分解成个若干个小目标，一段一段的去实现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4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制定方案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成功的人最难能可贵的就是，能够客观地分段实现他们的目标。而不是像我们有些同学，总想一口吞个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"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大烧饼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"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，结果反而被噎着了。所以懂得制定方案，阶段性地朝着目标奋斗的人是很容易取得成功的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5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执行计划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　　制定方案过程中必然会产生一个具体性的、细节性的计划，那就是平时行动的指南。它会帮助你分配和管理你的时间、精力，指导你在什么时间该做什么。同时还会告诉你在哪个阶段你会取得什么样的成功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5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执行计划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在执行计划的过程当中，一定要严格要求自己，同时要坚持不懈、持之以恒。切不可马虎了事，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"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三天打鱼，两天晒网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"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6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调整修正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　　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人非圣贤，熟能无过。当然你不是圣贤，所以在上面的步骤中有时候会犯错误。那么这个时候，要能冷静地思考，分析问题到底出在哪个环节，同时要有推翻以前从来的勇气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259920"/>
            <a:ext cx="359892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、以下关键词哪些是你上学期生活状态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活力  </a:t>
            </a: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快乐</a:t>
            </a: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浪漫  </a:t>
            </a: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悠闲</a:t>
            </a: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E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空虚  </a:t>
            </a: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F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堕落</a:t>
            </a: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忙碌  </a:t>
            </a: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H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竞争</a:t>
            </a: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I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单纯  </a:t>
            </a: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J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勤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11640" y="259920"/>
            <a:ext cx="377496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、以下选项哪个比较符合你的上学期大学生活？</a:t>
            </a: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丰富多彩，每天都会有收获</a:t>
            </a: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很忙碌。但不是自己喜欢的事情</a:t>
            </a: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平庸而平淡，没啥特别的</a:t>
            </a: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空虚无聊，如同在混时间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7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继续计划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在第六步中，如果不是致命性的错误，只要略做修改。以后，你就要坚定不移地继续你的计划，直到取得成功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8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收获成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　　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进行到这一步的时候，可以真正的恭喜你了：在你的苦心经营和不断努力下，在收获的季节你终于抵达了成功的彼岸。你可以无悔地给你的大学生活交上一份完美的答卷。 </a:t>
            </a: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　　　　　　　　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对于大学四年生活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            </a:t>
            </a:r>
            <a:r>
              <a:rPr b="1" lang="zh-CN" sz="4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我的建议是——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16000" y="1890360"/>
            <a:ext cx="7056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一年级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新生首要是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生活适应、确定学习目标。在基本适应大学学习、生活和人际交往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掌握良好的学习方法与习惯的基础上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确定自己的学习目标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并唤醒对职业的谋划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激发对未来的思考、期望。 认识自我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思考自己将来是考研、出国还是就业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引发对自己人生发展的思考和规划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认清自己将来从事什么样的工作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自己目前还有哪些不不足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思考如何在大学期间做好能力与素质方面的准备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68360" y="1125360"/>
            <a:ext cx="7705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当进入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二年级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同学的任务主要是围绕对自我认知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自我性格、气质、能力等方面进行了解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学会职业适应、落实职业规划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作好职业心理准备。通过生涯发展设计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回顾以往的经历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特别是英语、计算机的学习情况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引发自己对生涯的自主性认识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进一步调整职业生涯规划模式和自己的学习目标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选择对自己、社会有利的职业决策等具体的实践活动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如选择考研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二年级就要开始准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4360" y="2205000"/>
            <a:ext cx="7705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三、四年级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的规划围绕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职业适应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落实职业规划、走好求职之路是目标重点。深化对自我的认识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认真评估自己的中期学习目标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自己目前还有哪些不足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还需哪些知识、能力方面的准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亲爱的同学们，大学是令人羡慕的年华，年轻是你们最雄厚的资本，你们有什么理由不好好规划你们的大学生活呢？相信通过科学的规划，在大学的舞台上你们将展示与众不同的个性，收获属于你们自己的成功。 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6870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6600"/>
                </a:solidFill>
                <a:latin typeface="Comic Sans MS"/>
                <a:ea typeface="华文行楷"/>
              </a:rPr>
              <a:t>毕业生</a:t>
            </a:r>
            <a:r>
              <a:rPr b="1" lang="zh-CN" sz="44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如是说：</a:t>
            </a:r>
            <a:br>
              <a:rPr sz="4400"/>
            </a:br>
            <a:r>
              <a:rPr b="1" lang="zh-CN" sz="44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  毕业那天我们一起失业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769608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Comic Sans MS"/>
                <a:ea typeface="华文行楷"/>
              </a:rPr>
              <a:t>用人单位</a:t>
            </a:r>
            <a:r>
              <a:rPr b="1" lang="zh-CN" sz="44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如是说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我为什么不要应届毕业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7564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的确，大学是一生中知识储备、性格成熟、人生成长关键的时期。在那里本该渡过的人生中最值得回忆，最有价值的四年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可为什么却让许多人不堪回首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透视如今的大学校园，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"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天之骄子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"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们往往是在彷徨、呐喊、朝花夕拾中日复一日，年复一年地重复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"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前辈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"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们走过的路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79135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大学对他们来说，最大的好处就是可以混一张管用的文凭。只可惜这张文凭如今也不怎么管用了。于是，许多年以后他们再发出那样的感慨，也就不足为奇了。他们本可以“活”得更好，收获更大的成功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可是为什么没能做到呢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990000"/>
                </a:solidFill>
                <a:latin typeface="Comic Sans MS"/>
                <a:ea typeface="楷体_GB2312"/>
              </a:rPr>
              <a:t>回头看一看他们走过的路，不难发现他们中的许多人，都没有规划或者是没有很好地规划他们的大学生活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试问：不以规矩，何以成方圆；没有远大的抱负，何以成就伟业；偏离航向，又怎能抵达成功的彼岸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1:40:37Z</dcterms:created>
  <dc:creator>Administrator</dc:creator>
  <dc:description/>
  <dc:language>en-US</dc:language>
  <cp:lastModifiedBy>微软用户</cp:lastModifiedBy>
  <dcterms:modified xsi:type="dcterms:W3CDTF">2011-09-25T14:17:19Z</dcterms:modified>
  <cp:revision>16</cp:revision>
  <dc:subject/>
  <dc:title>给成长一个忠告—— 规划你的大学生活</dc:title>
</cp:coreProperties>
</file>